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47.png" ContentType="image/png"/>
  <Override PartName="/ppt/media/image49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46.png" ContentType="image/png"/>
  <Override PartName="/ppt/media/image48.jpeg" ContentType="image/jpeg"/>
  <Override PartName="/ppt/media/image32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1252080"/>
            <a:ext cx="4506840" cy="33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B55-AED2-4913-9AA6-83C53895F39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8AC9-CB07-443A-8E62-EE6A78199EF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6BF-06BC-4521-9024-366710EAE99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DC6-E54C-4EE3-A1A9-5FEFDC562C27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11A-CD95-4326-A695-4E1C6AEE67D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7F1-16CA-478F-8ABE-C957A6F1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B84-17D1-486B-B4D2-2F9C9AF7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172-37BA-4B1F-BBA6-E2EA4EEF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52E-7E3A-4503-9306-368D3EB7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F7E-1CA3-4407-90EA-A9DB148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061-FFD6-44D4-844E-F7760F2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994-F5EE-435C-9E29-22EB91D2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5C3-3BFE-4898-BAE2-FF8823CA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CFC-56F9-4EAC-915A-7F4294D5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8A5-A5CE-47D2-BF10-B586D0D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4AE-70DA-4E2F-9655-872C773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192-9BD4-4509-B73D-3DB9858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B001-E515-4B90-BDFE-4232A4E62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13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6.pn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image" Target="../media/image8.png"/><Relationship Id="rId9" Type="http://schemas.openxmlformats.org/officeDocument/2006/relationships/image" Target="../media/image48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8.png"/><Relationship Id="rId5" Type="http://schemas.openxmlformats.org/officeDocument/2006/relationships/image" Target="../media/image48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763640" y="3827520"/>
            <a:ext cx="87724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 системе и перспективах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фориентационной работ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Ульяновской области: через профессионализм к буду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7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01600" cy="1087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205000" y="5877000"/>
            <a:ext cx="92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Ирина Вениаминовна Киселе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заместитель Министра просвещения и воспитания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736640" cy="9889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2" descr=""/>
          <p:cNvPicPr/>
          <p:nvPr/>
        </p:nvPicPr>
        <p:blipFill>
          <a:blip r:embed="rId3"/>
          <a:stretch/>
        </p:blipFill>
        <p:spPr>
          <a:xfrm>
            <a:off x="0" y="957240"/>
            <a:ext cx="923148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object 5" descr=""/>
          <p:cNvPicPr/>
          <p:nvPr/>
        </p:nvPicPr>
        <p:blipFill>
          <a:blip r:embed="rId4"/>
          <a:stretch/>
        </p:blipFill>
        <p:spPr>
          <a:xfrm>
            <a:off x="0" y="5511960"/>
            <a:ext cx="2184480" cy="1315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5"/>
          <a:stretch/>
        </p:blipFill>
        <p:spPr>
          <a:xfrm>
            <a:off x="1859040" y="274680"/>
            <a:ext cx="19936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53960" y="195120"/>
            <a:ext cx="750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Интеграция школьного и профессионального образования по востребова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на региональном рынке труда профессиям и специаль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2" descr=""/>
          <p:cNvPicPr/>
          <p:nvPr/>
        </p:nvPicPr>
        <p:blipFill>
          <a:blip r:embed="rId1"/>
          <a:stretch/>
        </p:blipFill>
        <p:spPr>
          <a:xfrm>
            <a:off x="27000" y="5994360"/>
            <a:ext cx="8874000" cy="8002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58" name="object 3"/>
          <p:cNvSpPr/>
          <p:nvPr/>
        </p:nvSpPr>
        <p:spPr>
          <a:xfrm flipV="1">
            <a:off x="108000" y="936360"/>
            <a:ext cx="7318440" cy="7920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хема 2" descr=""/>
          <p:cNvPicPr/>
          <p:nvPr/>
        </p:nvPicPr>
        <p:blipFill>
          <a:blip r:embed="rId3"/>
          <a:stretch/>
        </p:blipFill>
        <p:spPr>
          <a:xfrm>
            <a:off x="-622440" y="1359000"/>
            <a:ext cx="4853160" cy="3109680"/>
          </a:xfrm>
          <a:prstGeom prst="rect">
            <a:avLst/>
          </a:prstGeom>
          <a:ln w="0">
            <a:noFill/>
          </a:ln>
        </p:spPr>
      </p:pic>
      <p:sp>
        <p:nvSpPr>
          <p:cNvPr id="160" name="object 3"/>
          <p:cNvSpPr/>
          <p:nvPr/>
        </p:nvSpPr>
        <p:spPr>
          <a:xfrm>
            <a:off x="4183200" y="3544920"/>
            <a:ext cx="4510080" cy="6336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https://press.pnu.edu.ru/media/filer_public/a4/f0/a4f0fa8e-ee9d-49a0-8883-46b1ea55b6e4/logotip_slayd.jpg"/>
          <p:cNvPicPr/>
          <p:nvPr/>
        </p:nvPicPr>
        <p:blipFill>
          <a:blip r:embed="rId4"/>
          <a:stretch/>
        </p:blipFill>
        <p:spPr>
          <a:xfrm>
            <a:off x="3983040" y="3693960"/>
            <a:ext cx="2241720" cy="158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https://sun9-84.userapi.com/impg/U23WGIPKeVZOQ-K-psDOzddmKejDlNKkKy8Zlg/3BPUTca3TyU.jpg?size=1200x795&amp;quality=96&amp;sign=2a087343e8b5218d8e1aecc280a80cda&amp;c_uniq_tag=4ANAJOpiDVzIRU5cLkKYKRWuN9YUUosO_-B8huajxEw&amp;type=album"/>
          <p:cNvPicPr/>
          <p:nvPr/>
        </p:nvPicPr>
        <p:blipFill>
          <a:blip r:embed="rId5"/>
          <a:srcRect l="13109" t="794" r="13373" b="82138"/>
          <a:stretch/>
        </p:blipFill>
        <p:spPr>
          <a:xfrm>
            <a:off x="4464000" y="5365800"/>
            <a:ext cx="3745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http://www.admobninsk.ru/netcat_files/131/176/startuet_olimpiada_po_tehnologicheskomu_predprinimatelstvu_1.jpeg"/>
          <p:cNvPicPr/>
          <p:nvPr/>
        </p:nvPicPr>
        <p:blipFill>
          <a:blip r:embed="rId6"/>
          <a:stretch/>
        </p:blipFill>
        <p:spPr>
          <a:xfrm>
            <a:off x="6080040" y="3819600"/>
            <a:ext cx="2828880" cy="131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https://i.stack.imgur.com/gltMz.jpg"/>
          <p:cNvPicPr/>
          <p:nvPr/>
        </p:nvPicPr>
        <p:blipFill>
          <a:blip r:embed="rId7"/>
          <a:stretch/>
        </p:blipFill>
        <p:spPr>
          <a:xfrm>
            <a:off x="6678720" y="1495440"/>
            <a:ext cx="1631880" cy="16318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1"/>
          <p:cNvSpPr/>
          <p:nvPr/>
        </p:nvSpPr>
        <p:spPr>
          <a:xfrm>
            <a:off x="155520" y="-144360"/>
            <a:ext cx="116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"/>
          <p:cNvPicPr/>
          <p:nvPr/>
        </p:nvPicPr>
        <p:blipFill>
          <a:blip r:embed="rId8"/>
          <a:stretch/>
        </p:blipFill>
        <p:spPr>
          <a:xfrm>
            <a:off x="4430880" y="1779480"/>
            <a:ext cx="1728720" cy="1524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"/>
          <p:cNvPicPr/>
          <p:nvPr/>
        </p:nvPicPr>
        <p:blipFill>
          <a:blip r:embed="rId9"/>
          <a:stretch/>
        </p:blipFill>
        <p:spPr>
          <a:xfrm>
            <a:off x="981000" y="4675320"/>
            <a:ext cx="20764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27000" y="131760"/>
            <a:ext cx="75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Интеграция школьного и профессионального образования по востребова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на региональном рынке труда профессиям и специаль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72" name="object 3"/>
          <p:cNvSpPr/>
          <p:nvPr/>
        </p:nvSpPr>
        <p:spPr>
          <a:xfrm flipV="1">
            <a:off x="27000" y="902160"/>
            <a:ext cx="7281720" cy="730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9" descr="https://ulpravda.ru/pictures/news/big/72126_big.png"/>
          <p:cNvPicPr/>
          <p:nvPr/>
        </p:nvPicPr>
        <p:blipFill>
          <a:blip r:embed="rId3"/>
          <a:stretch/>
        </p:blipFill>
        <p:spPr>
          <a:xfrm>
            <a:off x="611280" y="1235160"/>
            <a:ext cx="1352520" cy="13953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250920" y="29084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цикл профильных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и интенсивных см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57320" y="3475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интенсивные (профильные) см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«Юнио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73160" y="4022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Junior «Молодые профессионалы» </a:t>
            </a:r>
            <a:br>
              <a:rPr sz="1600"/>
            </a:b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в областях «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машиностроения» и «Авиастроен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3"/>
          <p:cNvSpPr/>
          <p:nvPr/>
        </p:nvSpPr>
        <p:spPr>
          <a:xfrm flipV="1">
            <a:off x="3456000" y="2882520"/>
            <a:ext cx="4680000" cy="460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https://dol-volzhanka.ru/wp-content/uploads/2021/02/unnamed.jpg"/>
          <p:cNvPicPr/>
          <p:nvPr/>
        </p:nvPicPr>
        <p:blipFill>
          <a:blip r:embed="rId4"/>
          <a:stretch/>
        </p:blipFill>
        <p:spPr>
          <a:xfrm>
            <a:off x="3328920" y="1673280"/>
            <a:ext cx="1865520" cy="9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https://sun9-22.userapi.com/impg/qLCH_pOD3hn-GRKCMurt2Y0tuL-PgYL55RCmsA/k37FMzhneKU.jpg?size=320x130&amp;quality=96&amp;sign=1bc000b0a23b2616bb5e8dfe8b0014c3&amp;c_uniq_tag=xhd7nmxScNQs3fn7ouNYh4cIdQ-611ZEuJTKDM_gEgw&amp;type=album"/>
          <p:cNvPicPr/>
          <p:nvPr/>
        </p:nvPicPr>
        <p:blipFill>
          <a:blip r:embed="rId5"/>
          <a:stretch/>
        </p:blipFill>
        <p:spPr>
          <a:xfrm>
            <a:off x="5435640" y="1709640"/>
            <a:ext cx="2206440" cy="8971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7"/>
          <p:cNvSpPr/>
          <p:nvPr/>
        </p:nvSpPr>
        <p:spPr>
          <a:xfrm>
            <a:off x="-205920" y="49212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выпускников-студ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https://zavodoukovsk.online/i/n/392/198392/tn_198392_72f14a8681ed8.jpg"/>
          <p:cNvPicPr/>
          <p:nvPr/>
        </p:nvPicPr>
        <p:blipFill>
          <a:blip r:embed="rId6"/>
          <a:srcRect l="0" t="9693" r="0" b="0"/>
          <a:stretch/>
        </p:blipFill>
        <p:spPr>
          <a:xfrm>
            <a:off x="4095720" y="3336840"/>
            <a:ext cx="5067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250920" y="1555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МБОУ г. Ульяновска «Средняя школа № 72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ject 18" descr=""/>
          <p:cNvPicPr/>
          <p:nvPr/>
        </p:nvPicPr>
        <p:blipFill>
          <a:blip r:embed="rId1"/>
          <a:stretch/>
        </p:blipFill>
        <p:spPr>
          <a:xfrm>
            <a:off x="900000" y="1733400"/>
            <a:ext cx="676440" cy="58608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21" descr=""/>
          <p:cNvPicPr/>
          <p:nvPr/>
        </p:nvPicPr>
        <p:blipFill>
          <a:blip r:embed="rId2"/>
          <a:stretch/>
        </p:blipFill>
        <p:spPr>
          <a:xfrm>
            <a:off x="946080" y="2639880"/>
            <a:ext cx="66672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19" descr=""/>
          <p:cNvPicPr/>
          <p:nvPr/>
        </p:nvPicPr>
        <p:blipFill>
          <a:blip r:embed="rId3"/>
          <a:stretch/>
        </p:blipFill>
        <p:spPr>
          <a:xfrm>
            <a:off x="900000" y="3687840"/>
            <a:ext cx="66672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20" descr=""/>
          <p:cNvPicPr/>
          <p:nvPr/>
        </p:nvPicPr>
        <p:blipFill>
          <a:blip r:embed="rId4"/>
          <a:stretch/>
        </p:blipFill>
        <p:spPr>
          <a:xfrm>
            <a:off x="873000" y="4797360"/>
            <a:ext cx="66852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5" descr=""/>
          <p:cNvPicPr/>
          <p:nvPr/>
        </p:nvPicPr>
        <p:blipFill>
          <a:blip r:embed="rId5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https://static.tildacdn.com/tild3765-3361-4262-b863-623262613738/imgonline-com-ua-Rep.jpg"/>
          <p:cNvPicPr/>
          <p:nvPr/>
        </p:nvPicPr>
        <p:blipFill>
          <a:blip r:embed="rId6"/>
          <a:stretch/>
        </p:blipFill>
        <p:spPr>
          <a:xfrm>
            <a:off x="723960" y="112536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s://static.tildacdn.com/tild3765-3361-4262-b863-623262613738/imgonline-com-ua-Rep.jpg"/>
          <p:cNvPicPr/>
          <p:nvPr/>
        </p:nvPicPr>
        <p:blipFill>
          <a:blip r:embed="rId7"/>
          <a:stretch/>
        </p:blipFill>
        <p:spPr>
          <a:xfrm>
            <a:off x="689040" y="2055960"/>
            <a:ext cx="954000" cy="952200"/>
          </a:xfrm>
          <a:prstGeom prst="rect">
            <a:avLst/>
          </a:prstGeom>
          <a:ln w="0">
            <a:noFill/>
          </a:ln>
        </p:spPr>
      </p:pic>
      <p:sp>
        <p:nvSpPr>
          <p:cNvPr id="190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ject 2" descr=""/>
          <p:cNvPicPr/>
          <p:nvPr/>
        </p:nvPicPr>
        <p:blipFill>
          <a:blip r:embed="rId8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"/>
          <p:cNvSpPr/>
          <p:nvPr/>
        </p:nvSpPr>
        <p:spPr>
          <a:xfrm>
            <a:off x="803160" y="3025800"/>
            <a:ext cx="8924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4" descr="https://static.tildacdn.com/tild3765-3361-4262-b863-623262613738/imgonline-com-ua-Rep.jpg"/>
          <p:cNvPicPr/>
          <p:nvPr/>
        </p:nvPicPr>
        <p:blipFill>
          <a:blip r:embed="rId9"/>
          <a:stretch/>
        </p:blipFill>
        <p:spPr>
          <a:xfrm>
            <a:off x="762120" y="337644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s://static.tildacdn.com/tild3765-3361-4262-b863-623262613738/imgonline-com-ua-Rep.jpg"/>
          <p:cNvPicPr/>
          <p:nvPr/>
        </p:nvPicPr>
        <p:blipFill>
          <a:blip r:embed="rId10"/>
          <a:stretch/>
        </p:blipFill>
        <p:spPr>
          <a:xfrm>
            <a:off x="757080" y="4500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"/>
          <p:cNvSpPr/>
          <p:nvPr/>
        </p:nvSpPr>
        <p:spPr>
          <a:xfrm>
            <a:off x="1685880" y="120960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Для обучающихся 8-11 классов определён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единый день - «Профильный четвер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43120" y="2027160"/>
            <a:ext cx="628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 2022/23 учебном году </a:t>
            </a:r>
            <a:r>
              <a:rPr b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140 выпускников </a:t>
            </a: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лучили свидетельство о профессии</a:t>
            </a: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 специальностям «Сборщик-клепальщик»; «Слесарь механосборочных работ»; «Слесарь сборщик летательных аппаратов»; «Сварщик частично механизированной сварки плавлением», «Медсестра милосерд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566720" y="3557520"/>
            <a:ext cx="70851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 2023 году  школа вошла в ТОП-100 образовательных организаций Юниорского движения Агентства развития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1689120" y="477036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С 2021 года в школе открыты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инженерные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250920" y="155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https://static.tildacdn.com/tild3765-3361-4262-b863-623262613738/imgonline-com-ua-Rep.jpg"/>
          <p:cNvPicPr/>
          <p:nvPr/>
        </p:nvPicPr>
        <p:blipFill>
          <a:blip r:embed="rId2"/>
          <a:stretch/>
        </p:blipFill>
        <p:spPr>
          <a:xfrm>
            <a:off x="257040" y="992160"/>
            <a:ext cx="9543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https://static.tildacdn.com/tild3765-3361-4262-b863-623262613738/imgonline-com-ua-Rep.jpg"/>
          <p:cNvPicPr/>
          <p:nvPr/>
        </p:nvPicPr>
        <p:blipFill>
          <a:blip r:embed="rId3"/>
          <a:stretch/>
        </p:blipFill>
        <p:spPr>
          <a:xfrm>
            <a:off x="277920" y="1719360"/>
            <a:ext cx="954000" cy="952560"/>
          </a:xfrm>
          <a:prstGeom prst="rect">
            <a:avLst/>
          </a:prstGeom>
          <a:ln w="0">
            <a:noFill/>
          </a:ln>
        </p:spPr>
      </p:pic>
      <p:sp>
        <p:nvSpPr>
          <p:cNvPr id="203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2" descr=""/>
          <p:cNvPicPr/>
          <p:nvPr/>
        </p:nvPicPr>
        <p:blipFill>
          <a:blip r:embed="rId4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3"/>
          <p:cNvSpPr/>
          <p:nvPr/>
        </p:nvSpPr>
        <p:spPr>
          <a:xfrm>
            <a:off x="803160" y="3025800"/>
            <a:ext cx="8924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" descr="https://static.tildacdn.com/tild3765-3361-4262-b863-623262613738/imgonline-com-ua-Rep.jpg"/>
          <p:cNvPicPr/>
          <p:nvPr/>
        </p:nvPicPr>
        <p:blipFill>
          <a:blip r:embed="rId5"/>
          <a:stretch/>
        </p:blipFill>
        <p:spPr>
          <a:xfrm>
            <a:off x="295200" y="246528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https://static.tildacdn.com/tild3765-3361-4262-b863-623262613738/imgonline-com-ua-Rep.jpg"/>
          <p:cNvPicPr/>
          <p:nvPr/>
        </p:nvPicPr>
        <p:blipFill>
          <a:blip r:embed="rId6"/>
          <a:stretch/>
        </p:blipFill>
        <p:spPr>
          <a:xfrm>
            <a:off x="2268360" y="3395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6"/>
          <p:cNvSpPr/>
          <p:nvPr/>
        </p:nvSpPr>
        <p:spPr>
          <a:xfrm>
            <a:off x="1071720" y="12542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«Уроки успех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004400" y="202104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8"/>
          <p:cNvSpPr/>
          <p:nvPr/>
        </p:nvSpPr>
        <p:spPr>
          <a:xfrm>
            <a:off x="1055880" y="271944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Дни открытых 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3"/>
          <p:cNvSpPr/>
          <p:nvPr/>
        </p:nvSpPr>
        <p:spPr>
          <a:xfrm>
            <a:off x="1249200" y="3254400"/>
            <a:ext cx="7525080" cy="442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9"/>
          <p:cNvSpPr/>
          <p:nvPr/>
        </p:nvSpPr>
        <p:spPr>
          <a:xfrm>
            <a:off x="3059280" y="3363840"/>
            <a:ext cx="576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«Система работы по самоопределению и профессиональной ориентации обучающихся» составляет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Astra Serif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0"/>
          <p:cNvSpPr/>
          <p:nvPr/>
        </p:nvSpPr>
        <p:spPr>
          <a:xfrm>
            <a:off x="3059280" y="4681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Готовность к введению Единой модели проф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https://petrsu.ru/files/news_notice_event/2020/12/22/1608642048_obrazetsdlyasaita8.jpg"/>
          <p:cNvPicPr/>
          <p:nvPr/>
        </p:nvPicPr>
        <p:blipFill>
          <a:blip r:embed="rId7"/>
          <a:srcRect l="16924" t="2069" r="22426" b="0"/>
          <a:stretch/>
        </p:blipFill>
        <p:spPr>
          <a:xfrm>
            <a:off x="298440" y="4030560"/>
            <a:ext cx="2243160" cy="154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www.eduportal44.ru/BuyR/Likur/likurga/SiteAssets/SitePages/%D0%9F%D1%80%D0%BE%D1%84%D0%B5%D1%81%D1%81%D0%B8%D0%BE%D0%BD%D0%B0%D0%BB%D1%8C%D0%BD%D0%B0%D1%8F%20%D0%BE%D1%80%D0%B8%D0%B5%D0%BD%D1%82%D0%B0%D1%86%D0%B8%D1%8F/%D0%BF3.jpg"/>
          <p:cNvPicPr/>
          <p:nvPr/>
        </p:nvPicPr>
        <p:blipFill>
          <a:blip r:embed="rId8"/>
          <a:stretch/>
        </p:blipFill>
        <p:spPr>
          <a:xfrm>
            <a:off x="6359400" y="1827360"/>
            <a:ext cx="28418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трелка вправо 4"/>
          <p:cNvSpPr/>
          <p:nvPr/>
        </p:nvSpPr>
        <p:spPr>
          <a:xfrm>
            <a:off x="108000" y="1944720"/>
            <a:ext cx="1963800" cy="29988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Шестиугольник 18"/>
          <p:cNvSpPr/>
          <p:nvPr/>
        </p:nvSpPr>
        <p:spPr>
          <a:xfrm>
            <a:off x="3638520" y="26272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Шестиугольник 19"/>
          <p:cNvSpPr/>
          <p:nvPr/>
        </p:nvSpPr>
        <p:spPr>
          <a:xfrm>
            <a:off x="1959120" y="1797120"/>
            <a:ext cx="2025360" cy="165888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импиады 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Шестиугольник 20"/>
          <p:cNvSpPr/>
          <p:nvPr/>
        </p:nvSpPr>
        <p:spPr>
          <a:xfrm>
            <a:off x="1952640" y="3478320"/>
            <a:ext cx="212724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с предприятиями, вуз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Шестиугольник 21"/>
          <p:cNvSpPr/>
          <p:nvPr/>
        </p:nvSpPr>
        <p:spPr>
          <a:xfrm>
            <a:off x="3552840" y="9208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й проект «Образование» в шк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1952640" y="30560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ду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Шестиугольник 23"/>
          <p:cNvSpPr/>
          <p:nvPr/>
        </p:nvSpPr>
        <p:spPr>
          <a:xfrm>
            <a:off x="5267160" y="172080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и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редпрофессионально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Шестиугольник 24"/>
          <p:cNvSpPr/>
          <p:nvPr/>
        </p:nvSpPr>
        <p:spPr>
          <a:xfrm>
            <a:off x="3719520" y="430704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детских садов и ш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Шестиугольник 12"/>
          <p:cNvSpPr/>
          <p:nvPr/>
        </p:nvSpPr>
        <p:spPr>
          <a:xfrm>
            <a:off x="5291280" y="3411360"/>
            <a:ext cx="2101680" cy="1659240"/>
          </a:xfrm>
          <a:prstGeom prst="hexagon">
            <a:avLst>
              <a:gd name="adj" fmla="val 24993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полнительное 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179280" y="1904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Система профориентацио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87480" y="29527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ощь школьникам в самоопредел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лево 5"/>
          <p:cNvSpPr/>
          <p:nvPr/>
        </p:nvSpPr>
        <p:spPr>
          <a:xfrm>
            <a:off x="7113600" y="2179800"/>
            <a:ext cx="1963800" cy="243180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дготовка кадров для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ject 2" descr=""/>
          <p:cNvPicPr/>
          <p:nvPr/>
        </p:nvPicPr>
        <p:blipFill>
          <a:blip r:embed="rId2"/>
          <a:stretch/>
        </p:blipFill>
        <p:spPr>
          <a:xfrm>
            <a:off x="303120" y="6186600"/>
            <a:ext cx="87742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5" descr=""/>
          <p:cNvPicPr/>
          <p:nvPr/>
        </p:nvPicPr>
        <p:blipFill>
          <a:blip r:embed="rId1"/>
          <a:srcRect l="0" t="68283" r="0" b="0"/>
          <a:stretch/>
        </p:blipFill>
        <p:spPr>
          <a:xfrm>
            <a:off x="5292720" y="5300640"/>
            <a:ext cx="368136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object 2"/>
          <p:cNvSpPr/>
          <p:nvPr/>
        </p:nvSpPr>
        <p:spPr>
          <a:xfrm>
            <a:off x="0" y="5300640"/>
            <a:ext cx="6049800" cy="1465200"/>
          </a:xfrm>
          <a:custGeom>
            <a:avLst/>
            <a:gdLst/>
            <a:ahLst/>
            <a:rect l="l" t="t" r="r" b="b"/>
            <a:pathLst>
              <a:path w="6358255" h="2024379">
                <a:moveTo>
                  <a:pt x="6020816" y="0"/>
                </a:moveTo>
                <a:lnTo>
                  <a:pt x="337324" y="0"/>
                </a:lnTo>
                <a:lnTo>
                  <a:pt x="291552" y="3078"/>
                </a:lnTo>
                <a:lnTo>
                  <a:pt x="247651" y="12047"/>
                </a:lnTo>
                <a:lnTo>
                  <a:pt x="206023" y="26505"/>
                </a:lnTo>
                <a:lnTo>
                  <a:pt x="167071" y="46049"/>
                </a:lnTo>
                <a:lnTo>
                  <a:pt x="131196" y="70278"/>
                </a:lnTo>
                <a:lnTo>
                  <a:pt x="98801" y="98790"/>
                </a:lnTo>
                <a:lnTo>
                  <a:pt x="70286" y="131183"/>
                </a:lnTo>
                <a:lnTo>
                  <a:pt x="46055" y="167056"/>
                </a:lnTo>
                <a:lnTo>
                  <a:pt x="26509" y="206007"/>
                </a:lnTo>
                <a:lnTo>
                  <a:pt x="12049" y="247635"/>
                </a:lnTo>
                <a:lnTo>
                  <a:pt x="3079" y="291537"/>
                </a:lnTo>
                <a:lnTo>
                  <a:pt x="0" y="337312"/>
                </a:lnTo>
                <a:lnTo>
                  <a:pt x="0" y="1686547"/>
                </a:lnTo>
                <a:lnTo>
                  <a:pt x="3079" y="1732319"/>
                </a:lnTo>
                <a:lnTo>
                  <a:pt x="12049" y="1776220"/>
                </a:lnTo>
                <a:lnTo>
                  <a:pt x="26509" y="1817847"/>
                </a:lnTo>
                <a:lnTo>
                  <a:pt x="46055" y="1856799"/>
                </a:lnTo>
                <a:lnTo>
                  <a:pt x="70286" y="1892674"/>
                </a:lnTo>
                <a:lnTo>
                  <a:pt x="98801" y="1925070"/>
                </a:lnTo>
                <a:lnTo>
                  <a:pt x="131196" y="1953584"/>
                </a:lnTo>
                <a:lnTo>
                  <a:pt x="167071" y="1977815"/>
                </a:lnTo>
                <a:lnTo>
                  <a:pt x="206023" y="1997361"/>
                </a:lnTo>
                <a:lnTo>
                  <a:pt x="247651" y="2011821"/>
                </a:lnTo>
                <a:lnTo>
                  <a:pt x="291552" y="2020791"/>
                </a:lnTo>
                <a:lnTo>
                  <a:pt x="337324" y="2023870"/>
                </a:lnTo>
                <a:lnTo>
                  <a:pt x="6020816" y="2023870"/>
                </a:lnTo>
                <a:lnTo>
                  <a:pt x="6066590" y="2020791"/>
                </a:lnTo>
                <a:lnTo>
                  <a:pt x="6110492" y="2011821"/>
                </a:lnTo>
                <a:lnTo>
                  <a:pt x="6152120" y="1997361"/>
                </a:lnTo>
                <a:lnTo>
                  <a:pt x="6191071" y="1977815"/>
                </a:lnTo>
                <a:lnTo>
                  <a:pt x="6226944" y="1953584"/>
                </a:lnTo>
                <a:lnTo>
                  <a:pt x="6259337" y="1925070"/>
                </a:lnTo>
                <a:lnTo>
                  <a:pt x="6287849" y="1892674"/>
                </a:lnTo>
                <a:lnTo>
                  <a:pt x="6312078" y="1856799"/>
                </a:lnTo>
                <a:lnTo>
                  <a:pt x="6331622" y="1817847"/>
                </a:lnTo>
                <a:lnTo>
                  <a:pt x="6346080" y="1776220"/>
                </a:lnTo>
                <a:lnTo>
                  <a:pt x="6355049" y="1732319"/>
                </a:lnTo>
                <a:lnTo>
                  <a:pt x="6358128" y="1686547"/>
                </a:lnTo>
                <a:lnTo>
                  <a:pt x="6358128" y="337312"/>
                </a:lnTo>
                <a:lnTo>
                  <a:pt x="6355049" y="291537"/>
                </a:lnTo>
                <a:lnTo>
                  <a:pt x="6346080" y="247635"/>
                </a:lnTo>
                <a:lnTo>
                  <a:pt x="6331622" y="206007"/>
                </a:lnTo>
                <a:lnTo>
                  <a:pt x="6312078" y="167056"/>
                </a:lnTo>
                <a:lnTo>
                  <a:pt x="6287849" y="131183"/>
                </a:lnTo>
                <a:lnTo>
                  <a:pt x="6259337" y="98790"/>
                </a:lnTo>
                <a:lnTo>
                  <a:pt x="6226944" y="70278"/>
                </a:lnTo>
                <a:lnTo>
                  <a:pt x="6191071" y="46049"/>
                </a:lnTo>
                <a:lnTo>
                  <a:pt x="6152120" y="26505"/>
                </a:lnTo>
                <a:lnTo>
                  <a:pt x="6110492" y="12047"/>
                </a:lnTo>
                <a:lnTo>
                  <a:pt x="6066590" y="3078"/>
                </a:lnTo>
                <a:lnTo>
                  <a:pt x="6020816" y="0"/>
                </a:lnTo>
                <a:close/>
              </a:path>
            </a:pathLst>
          </a:custGeom>
          <a:solidFill>
            <a:srgbClr val="ba9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480960" y="5516640"/>
            <a:ext cx="38545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ССЫЛКА НА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на официальном сай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Министерства просвещения и воспитания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7" descr=""/>
          <p:cNvPicPr/>
          <p:nvPr/>
        </p:nvPicPr>
        <p:blipFill>
          <a:blip r:embed="rId2"/>
          <a:stretch/>
        </p:blipFill>
        <p:spPr>
          <a:xfrm>
            <a:off x="7489800" y="0"/>
            <a:ext cx="1509840" cy="857160"/>
          </a:xfrm>
          <a:prstGeom prst="rect">
            <a:avLst/>
          </a:prstGeom>
          <a:ln w="0">
            <a:noFill/>
          </a:ln>
        </p:spPr>
      </p:pic>
      <p:sp>
        <p:nvSpPr>
          <p:cNvPr id="59" name="object 3"/>
          <p:cNvSpPr/>
          <p:nvPr/>
        </p:nvSpPr>
        <p:spPr>
          <a:xfrm flipV="1">
            <a:off x="84240" y="522720"/>
            <a:ext cx="6391080" cy="493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324000" y="874800"/>
            <a:ext cx="74307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01.09.2020 № 231-р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Об утверждении стратегии развития образования на территории Ульяновской области на период до 2030 г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16.05.2022 № 1079-р «Об утверждении Положения о региональных механизмах управления качеством образования в Ульяновской области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20.05.2022 № 1087-р «Об утверждении Дорожной карты по достижению целей и формы методов сбора и обработки информации, информационных систем, используемых в рамках мониторинга по направлению «Система работы по самоопределению и профессиональной ориентации обучающихс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14.03.2023 № 526-р «Об утверждении состава межведомственной комиссии и перечня общеобразовательных организаций, участвующих в реализации проекта по созданию и функционированию инженерных классов по профилю авиастроения в Ульяновской области в 2023-2025 г.г.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грамма взаимодействия федерального государственного бюджетного образовательного учреждения высшего образования «Ульяновский государственный педагогический университет имени И.Н.Ульянова» и Министерства просвещения и воспитания Ульяновской области на период 2021-2024 гг.» (утверждена от 25.012021 года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1" descr="http://qrcoder.ru/code/?http%3A%2F%2Fhttps%3A%2F%2Fwww.mo73.ru%2Fdey%2Foo%2Foo2%2F&amp;4&amp;0"/>
          <p:cNvPicPr/>
          <p:nvPr/>
        </p:nvPicPr>
        <p:blipFill>
          <a:blip r:embed="rId3"/>
          <a:stretch/>
        </p:blipFill>
        <p:spPr>
          <a:xfrm>
            <a:off x="4286160" y="53290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0" y="6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  <a:ea typeface="Arial"/>
              </a:rPr>
              <a:t>Нормативная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3386880" y="4752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108000" y="5681520"/>
            <a:ext cx="9036000" cy="1148040"/>
          </a:xfrm>
          <a:prstGeom prst="rect">
            <a:avLst/>
          </a:prstGeom>
          <a:ln w="0">
            <a:noFill/>
          </a:ln>
        </p:spPr>
      </p:pic>
      <p:sp>
        <p:nvSpPr>
          <p:cNvPr id="65" name="object 3"/>
          <p:cNvSpPr/>
          <p:nvPr/>
        </p:nvSpPr>
        <p:spPr>
          <a:xfrm flipV="1">
            <a:off x="1428840" y="632160"/>
            <a:ext cx="6392880" cy="493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s://gimnazia133.my1.ru/Proekt_OBRAZOVA/1obr.jpg"/>
          <p:cNvPicPr/>
          <p:nvPr/>
        </p:nvPicPr>
        <p:blipFill>
          <a:blip r:embed="rId2"/>
          <a:srcRect l="4474" t="9673" r="63968" b="53016"/>
          <a:stretch/>
        </p:blipFill>
        <p:spPr>
          <a:xfrm>
            <a:off x="0" y="-12600"/>
            <a:ext cx="2036880" cy="165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https://storage.top100token.com/images/aa2994ab-d0a5-4e14-b242-368f118d7aee.jpg"/>
          <p:cNvPicPr/>
          <p:nvPr/>
        </p:nvPicPr>
        <p:blipFill>
          <a:blip r:embed="rId3"/>
          <a:srcRect l="17221" t="-308" r="12993" b="0"/>
          <a:stretch/>
        </p:blipFill>
        <p:spPr>
          <a:xfrm>
            <a:off x="366840" y="2260440"/>
            <a:ext cx="1224000" cy="1055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590840" y="1673280"/>
            <a:ext cx="71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К 2024 г. осуществлять реализацию общеобразовательных программ в сетевой форме </a:t>
            </a:r>
            <a:r>
              <a:rPr b="1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в 70 % организаций</a:t>
            </a:r>
            <a:r>
              <a:rPr b="0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 начального, основного и средне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619280" y="2763720"/>
            <a:ext cx="71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Более 80% детей в возрасте от 5 до 18 лет </a:t>
            </a: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к 2024 году будут охвачены интересными и востребованными программами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5"/>
          <p:cNvSpPr/>
          <p:nvPr/>
        </p:nvSpPr>
        <p:spPr>
          <a:xfrm>
            <a:off x="968400" y="3743280"/>
            <a:ext cx="755964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https://infovostok.ru/media/rss-25488492b6155fb42520f2633eaafefa/rssimg-3883b0b1c23d93a34ba4d5399951d7f7.jpeg"/>
          <p:cNvPicPr/>
          <p:nvPr/>
        </p:nvPicPr>
        <p:blipFill>
          <a:blip r:embed="rId4"/>
          <a:stretch/>
        </p:blipFill>
        <p:spPr>
          <a:xfrm>
            <a:off x="3408480" y="4221000"/>
            <a:ext cx="288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трелка вправо 4"/>
          <p:cNvSpPr/>
          <p:nvPr/>
        </p:nvSpPr>
        <p:spPr>
          <a:xfrm>
            <a:off x="303120" y="1817640"/>
            <a:ext cx="1704960" cy="3000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18"/>
          <p:cNvSpPr/>
          <p:nvPr/>
        </p:nvSpPr>
        <p:spPr>
          <a:xfrm>
            <a:off x="3638520" y="26272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19"/>
          <p:cNvSpPr/>
          <p:nvPr/>
        </p:nvSpPr>
        <p:spPr>
          <a:xfrm>
            <a:off x="1959120" y="1797120"/>
            <a:ext cx="2025360" cy="165888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импиады 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20"/>
          <p:cNvSpPr/>
          <p:nvPr/>
        </p:nvSpPr>
        <p:spPr>
          <a:xfrm>
            <a:off x="1952640" y="3478320"/>
            <a:ext cx="212724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с предприятиями, вуз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21"/>
          <p:cNvSpPr/>
          <p:nvPr/>
        </p:nvSpPr>
        <p:spPr>
          <a:xfrm>
            <a:off x="3552840" y="9208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й проект «Образование» в шк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1952640" y="30560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ду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23"/>
          <p:cNvSpPr/>
          <p:nvPr/>
        </p:nvSpPr>
        <p:spPr>
          <a:xfrm>
            <a:off x="5267160" y="172080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и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редпрофессионально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24"/>
          <p:cNvSpPr/>
          <p:nvPr/>
        </p:nvSpPr>
        <p:spPr>
          <a:xfrm>
            <a:off x="3719520" y="430704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детских садов и ш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12"/>
          <p:cNvSpPr/>
          <p:nvPr/>
        </p:nvSpPr>
        <p:spPr>
          <a:xfrm>
            <a:off x="5291280" y="3411360"/>
            <a:ext cx="2165040" cy="1659240"/>
          </a:xfrm>
          <a:prstGeom prst="hexagon">
            <a:avLst>
              <a:gd name="adj" fmla="val 24991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полнительное 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79280" y="1904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Система профориентацио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60360" y="2627280"/>
            <a:ext cx="15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ощь школьникам в самоопреде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лево 5"/>
          <p:cNvSpPr/>
          <p:nvPr/>
        </p:nvSpPr>
        <p:spPr>
          <a:xfrm>
            <a:off x="7037280" y="2076480"/>
            <a:ext cx="1963800" cy="24321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готовка кадров для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2" descr=""/>
          <p:cNvPicPr/>
          <p:nvPr/>
        </p:nvPicPr>
        <p:blipFill>
          <a:blip r:embed="rId2"/>
          <a:stretch/>
        </p:blipFill>
        <p:spPr>
          <a:xfrm>
            <a:off x="303120" y="6186600"/>
            <a:ext cx="87742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24000" y="189000"/>
            <a:ext cx="75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Профориентация с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27000" y="5994360"/>
            <a:ext cx="8874000" cy="80028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91" name="object 3"/>
          <p:cNvSpPr/>
          <p:nvPr/>
        </p:nvSpPr>
        <p:spPr>
          <a:xfrm flipV="1">
            <a:off x="179280" y="603720"/>
            <a:ext cx="7318440" cy="7956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s://r1.nubex.ru/s14171-d5c/f910_b7/logo_e81171b6a91c39853400a6464ae300d2.png"/>
          <p:cNvPicPr/>
          <p:nvPr/>
        </p:nvPicPr>
        <p:blipFill>
          <a:blip r:embed="rId3"/>
          <a:stretch/>
        </p:blipFill>
        <p:spPr>
          <a:xfrm>
            <a:off x="179280" y="1044720"/>
            <a:ext cx="2167200" cy="16254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https://sun9-22.userapi.com/impg/qLCH_pOD3hn-GRKCMurt2Y0tuL-PgYL55RCmsA/k37FMzhneKU.jpg?size=320x130&amp;quality=96&amp;sign=1bc000b0a23b2616bb5e8dfe8b0014c3&amp;c_uniq_tag=xhd7nmxScNQs3fn7ouNYh4cIdQ-611ZEuJTKDM_gEgw&amp;type=album"/>
          <p:cNvPicPr/>
          <p:nvPr/>
        </p:nvPicPr>
        <p:blipFill>
          <a:blip r:embed="rId4"/>
          <a:stretch/>
        </p:blipFill>
        <p:spPr>
          <a:xfrm>
            <a:off x="4716360" y="1467000"/>
            <a:ext cx="2781360" cy="1130040"/>
          </a:xfrm>
          <a:prstGeom prst="rect">
            <a:avLst/>
          </a:prstGeom>
          <a:ln w="0">
            <a:noFill/>
          </a:ln>
        </p:spPr>
      </p:pic>
      <p:grpSp>
        <p:nvGrpSpPr>
          <p:cNvPr id="95" name="Двойная стрелка влево/вправо 5"/>
          <p:cNvGrpSpPr/>
          <p:nvPr/>
        </p:nvGrpSpPr>
        <p:grpSpPr>
          <a:xfrm>
            <a:off x="2438280" y="1603440"/>
            <a:ext cx="2194200" cy="901800"/>
            <a:chOff x="2438280" y="1603440"/>
            <a:chExt cx="2194200" cy="901800"/>
          </a:xfrm>
        </p:grpSpPr>
        <p:pic>
          <p:nvPicPr>
            <p:cNvPr id="96" name="Двойная стрелка влево/вправо 5" descr=""/>
            <p:cNvPicPr/>
            <p:nvPr/>
          </p:nvPicPr>
          <p:blipFill>
            <a:blip r:embed="rId5"/>
            <a:stretch/>
          </p:blipFill>
          <p:spPr>
            <a:xfrm>
              <a:off x="2438280" y="1603440"/>
              <a:ext cx="219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689200" y="1830240"/>
              <a:ext cx="169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ой прое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bject 2"/>
          <p:cNvSpPr/>
          <p:nvPr/>
        </p:nvSpPr>
        <p:spPr>
          <a:xfrm>
            <a:off x="27000" y="5632560"/>
            <a:ext cx="5195880" cy="1112760"/>
          </a:xfrm>
          <a:prstGeom prst="pie">
            <a:avLst/>
          </a:prstGeom>
          <a:solidFill>
            <a:srgbClr val="ba9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«Волгар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http://qrcoder.ru/code/?https%3A%2F%2Fvolgarik.nubex.ru%2Finfo%2F4998%2F5148_universalny_igrovoy_poznavatelny_kompleks_volgarik.html&amp;4&amp;0"/>
          <p:cNvPicPr/>
          <p:nvPr/>
        </p:nvPicPr>
        <p:blipFill>
          <a:blip r:embed="rId6"/>
          <a:stretch/>
        </p:blipFill>
        <p:spPr>
          <a:xfrm>
            <a:off x="3780000" y="5632560"/>
            <a:ext cx="1195200" cy="11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https://r1.nubex.ru/s14171-d5c/eb365e3c49_fit-in~1280x800~filters:no_upscale()__f2457_13.jpg"/>
          <p:cNvPicPr/>
          <p:nvPr/>
        </p:nvPicPr>
        <p:blipFill>
          <a:blip r:embed="rId7"/>
          <a:stretch/>
        </p:blipFill>
        <p:spPr>
          <a:xfrm>
            <a:off x="2486160" y="3259080"/>
            <a:ext cx="2192040" cy="14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s://r1.nubex.ru/s14171-d5c/296af795b2_fit-in~1280x800~filters:no_upscale()__f2456_70.jpg"/>
          <p:cNvPicPr/>
          <p:nvPr/>
        </p:nvPicPr>
        <p:blipFill>
          <a:blip r:embed="rId8"/>
          <a:stretch/>
        </p:blipFill>
        <p:spPr>
          <a:xfrm>
            <a:off x="6778800" y="4464000"/>
            <a:ext cx="2247840" cy="149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https://r1.nubex.ru/s14171-d5c/30e740c5f5_fit-in~1280x800~filters:no_upscale()__f2447_a2.jpg"/>
          <p:cNvPicPr/>
          <p:nvPr/>
        </p:nvPicPr>
        <p:blipFill>
          <a:blip r:embed="rId9"/>
          <a:stretch/>
        </p:blipFill>
        <p:spPr>
          <a:xfrm>
            <a:off x="160200" y="2881440"/>
            <a:ext cx="2281320" cy="152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https://r1.nubex.ru/s14171-d5c/19008a0756_fit-in~1280x800~filters:no_upscale()__f2448_9a.jpg"/>
          <p:cNvPicPr/>
          <p:nvPr/>
        </p:nvPicPr>
        <p:blipFill>
          <a:blip r:embed="rId10"/>
          <a:stretch/>
        </p:blipFill>
        <p:spPr>
          <a:xfrm>
            <a:off x="4632480" y="3762360"/>
            <a:ext cx="22431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bject 3"/>
          <p:cNvSpPr/>
          <p:nvPr/>
        </p:nvSpPr>
        <p:spPr>
          <a:xfrm>
            <a:off x="0" y="635040"/>
            <a:ext cx="7524720" cy="442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" descr=""/>
          <p:cNvPicPr/>
          <p:nvPr/>
        </p:nvPicPr>
        <p:blipFill>
          <a:blip r:embed="rId2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68360" y="1699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Билет в буду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3"/>
          <a:stretch/>
        </p:blipFill>
        <p:spPr>
          <a:xfrm>
            <a:off x="7236000" y="3963960"/>
            <a:ext cx="1433160" cy="14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Диаграмма 7"/>
          <p:cNvGraphicFramePr/>
          <p:nvPr/>
        </p:nvGraphicFramePr>
        <p:xfrm>
          <a:off x="560520" y="1362240"/>
          <a:ext cx="6149880" cy="41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0" name="Диаграмма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520" y="1362240"/>
                    <a:ext cx="614988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13" name="object 3"/>
          <p:cNvSpPr/>
          <p:nvPr/>
        </p:nvSpPr>
        <p:spPr>
          <a:xfrm flipV="1">
            <a:off x="0" y="710280"/>
            <a:ext cx="7639200" cy="457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39640" y="163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Билет в буду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хема 1" descr=""/>
          <p:cNvPicPr/>
          <p:nvPr/>
        </p:nvPicPr>
        <p:blipFill>
          <a:blip r:embed="rId3"/>
          <a:stretch/>
        </p:blipFill>
        <p:spPr>
          <a:xfrm>
            <a:off x="249120" y="981000"/>
            <a:ext cx="566424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s://mosaica.ru/image/index/848xauto/17629?water="/>
          <p:cNvPicPr/>
          <p:nvPr/>
        </p:nvPicPr>
        <p:blipFill>
          <a:blip r:embed="rId4"/>
          <a:stretch/>
        </p:blipFill>
        <p:spPr>
          <a:xfrm>
            <a:off x="6084720" y="2262240"/>
            <a:ext cx="2670480" cy="177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s://russianplanes.net/images/to173000/172984.jpg"/>
          <p:cNvPicPr/>
          <p:nvPr/>
        </p:nvPicPr>
        <p:blipFill>
          <a:blip r:embed="rId5"/>
          <a:stretch/>
        </p:blipFill>
        <p:spPr>
          <a:xfrm>
            <a:off x="3924360" y="4114800"/>
            <a:ext cx="2519280" cy="1703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17640" y="801720"/>
            <a:ext cx="45720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Times New Roman"/>
              </a:rPr>
              <a:t>Проект «Билет в будущее» - эффективный инструмент для реализации Единой модели профориентации - профминимума, внедряемого</a:t>
            </a:r>
            <a:br>
              <a:rPr sz="1400"/>
            </a:b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Times New Roman"/>
              </a:rPr>
              <a:t> с 1 сентября 2023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-449280" y="152280"/>
            <a:ext cx="83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Центр опережающей профессиональной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https://greenexp.ru/uploads/places/2099585113/86c7099cfd8bdc6eb1b5ba85c447fad0.jpg"/>
          <p:cNvPicPr/>
          <p:nvPr/>
        </p:nvPicPr>
        <p:blipFill>
          <a:blip r:embed="rId3"/>
          <a:srcRect l="0" t="16855" r="0" b="26107"/>
          <a:stretch/>
        </p:blipFill>
        <p:spPr>
          <a:xfrm>
            <a:off x="395280" y="1068480"/>
            <a:ext cx="341784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108000" y="2405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более 5000 подростков 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лучили рекомендации по дальнейшему профессиональному самоопредел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5" descr="https://xn--80abbqipopbve.xn--p1ai/attachments/Image/professionalit.png?template=generic"/>
          <p:cNvPicPr/>
          <p:nvPr/>
        </p:nvPicPr>
        <p:blipFill>
          <a:blip r:embed="rId4"/>
          <a:stretch/>
        </p:blipFill>
        <p:spPr>
          <a:xfrm>
            <a:off x="5003640" y="2244600"/>
            <a:ext cx="360216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70000" y="316548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70% обучающихся 6-11 классов 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от общего количества обучающихся 6-11 классов в Ульянов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охвачены мероприятиями, направленными на популяризацию образовательных программ «Профессионалит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44440" y="4573440"/>
            <a:ext cx="4572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сего в 2022-2023 учебном году прошли обучение по рабочим профессиям </a:t>
            </a: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759 обучающихся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. 63% из них продолжили обучение в профессиональных образовательных организациях по выбранным направл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7621200" y="3384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4"/>
          <p:cNvSpPr/>
          <p:nvPr/>
        </p:nvSpPr>
        <p:spPr>
          <a:xfrm>
            <a:off x="135000" y="272880"/>
            <a:ext cx="73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Профориентация обучающихся на уровне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s://xn--37-6kch5a1ah0e5d.xn--p1ai/assets/images/news/2017/20171101/JKh_84Zomok.jpg"/>
          <p:cNvPicPr/>
          <p:nvPr/>
        </p:nvPicPr>
        <p:blipFill>
          <a:blip r:embed="rId1"/>
          <a:srcRect l="0" t="0" r="24" b="14848"/>
          <a:stretch/>
        </p:blipFill>
        <p:spPr>
          <a:xfrm>
            <a:off x="635040" y="917640"/>
            <a:ext cx="1512720" cy="968400"/>
          </a:xfrm>
          <a:prstGeom prst="rect">
            <a:avLst/>
          </a:prstGeom>
          <a:ln w="0">
            <a:noFill/>
          </a:ln>
        </p:spPr>
      </p:pic>
      <p:sp>
        <p:nvSpPr>
          <p:cNvPr id="131" name="任意多边形 105"/>
          <p:cNvSpPr/>
          <p:nvPr/>
        </p:nvSpPr>
        <p:spPr>
          <a:xfrm flipV="1">
            <a:off x="457200" y="2286000"/>
            <a:ext cx="173340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77800" y="182088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детских технопа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05"/>
          <p:cNvSpPr/>
          <p:nvPr/>
        </p:nvSpPr>
        <p:spPr>
          <a:xfrm flipV="1">
            <a:off x="457200" y="3506760"/>
            <a:ext cx="173340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77800" y="20383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школьных технопа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555480" y="2284560"/>
            <a:ext cx="22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мобильных Квантори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s://static.tildacdn.com/tild3633-3163-4966-b365-376564303465/1.png"/>
          <p:cNvPicPr/>
          <p:nvPr/>
        </p:nvPicPr>
        <p:blipFill>
          <a:blip r:embed="rId2"/>
          <a:srcRect l="0" t="7522" r="24503" b="-4739"/>
          <a:stretch/>
        </p:blipFill>
        <p:spPr>
          <a:xfrm>
            <a:off x="100080" y="2720880"/>
            <a:ext cx="2217600" cy="774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1"/>
          <p:cNvSpPr/>
          <p:nvPr/>
        </p:nvSpPr>
        <p:spPr>
          <a:xfrm>
            <a:off x="647640" y="3537000"/>
            <a:ext cx="22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м научной коллаба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05"/>
          <p:cNvSpPr/>
          <p:nvPr/>
        </p:nvSpPr>
        <p:spPr>
          <a:xfrm flipV="1">
            <a:off x="1450800" y="4961880"/>
            <a:ext cx="1733760" cy="33156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633680" y="4959360"/>
            <a:ext cx="22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s://sun9-8.userapi.com/impg/1YszRfKkob8iwAyottQdF_tlOlUTCgmIiYIYKg/PLU2rf2nCJ4.jpg?size=900x826&amp;quality=96&amp;sign=887eed69441803f9c34f2debe9a08a10&amp;c_uniq_tag=I-vQD-8Vo7hO_DDfEf8WD4K1AwKv0TtP5YAS1pZa7Kg&amp;type=album"/>
          <p:cNvPicPr/>
          <p:nvPr/>
        </p:nvPicPr>
        <p:blipFill>
          <a:blip r:embed="rId3"/>
          <a:stretch/>
        </p:blipFill>
        <p:spPr>
          <a:xfrm>
            <a:off x="334800" y="4595760"/>
            <a:ext cx="1068480" cy="979560"/>
          </a:xfrm>
          <a:prstGeom prst="rect">
            <a:avLst/>
          </a:prstGeom>
          <a:ln w="0">
            <a:noFill/>
          </a:ln>
        </p:spPr>
      </p:pic>
      <p:sp>
        <p:nvSpPr>
          <p:cNvPr id="141" name="任意多边形 96"/>
          <p:cNvSpPr/>
          <p:nvPr/>
        </p:nvSpPr>
        <p:spPr>
          <a:xfrm flipH="1">
            <a:off x="3899880" y="3348000"/>
            <a:ext cx="16016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4046400" y="3384720"/>
            <a:ext cx="22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Алые Пару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s://klgd.myatom.ru/wp-content/uploads/sites/3/2020/01/%D1%86%D1%80%D0%BE%D0%B4-1.png"/>
          <p:cNvPicPr/>
          <p:nvPr/>
        </p:nvPicPr>
        <p:blipFill>
          <a:blip r:embed="rId4"/>
          <a:stretch/>
        </p:blipFill>
        <p:spPr>
          <a:xfrm>
            <a:off x="3772080" y="2614680"/>
            <a:ext cx="1820520" cy="7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Точка роста"/>
          <p:cNvPicPr/>
          <p:nvPr/>
        </p:nvPicPr>
        <p:blipFill>
          <a:blip r:embed="rId5"/>
          <a:stretch/>
        </p:blipFill>
        <p:spPr>
          <a:xfrm>
            <a:off x="3641760" y="1657440"/>
            <a:ext cx="2066760" cy="610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2"/>
          <p:cNvSpPr/>
          <p:nvPr/>
        </p:nvSpPr>
        <p:spPr>
          <a:xfrm>
            <a:off x="3059280" y="15825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96"/>
          <p:cNvSpPr/>
          <p:nvPr/>
        </p:nvSpPr>
        <p:spPr>
          <a:xfrm flipH="1">
            <a:off x="2957400" y="1627200"/>
            <a:ext cx="16034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https://eduportal44.ru/Makariev_EDU/childrens_creation/zakon/SiteAssets/SitePages/%D0%94%D0%9E%D0%9F%D0%BC%D0%B5%D1%81%D1%82%D0%B0/1.jpg"/>
          <p:cNvPicPr/>
          <p:nvPr/>
        </p:nvPicPr>
        <p:blipFill>
          <a:blip r:embed="rId6"/>
          <a:srcRect l="0" t="0" r="0" b="43544"/>
          <a:stretch/>
        </p:blipFill>
        <p:spPr>
          <a:xfrm>
            <a:off x="4675320" y="4894200"/>
            <a:ext cx="1277640" cy="51120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96"/>
          <p:cNvSpPr/>
          <p:nvPr/>
        </p:nvSpPr>
        <p:spPr>
          <a:xfrm flipH="1">
            <a:off x="4131720" y="4568760"/>
            <a:ext cx="16016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7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8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51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3675240" y="45687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1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2" descr="https://gym1748v.mskobr.ru/files/attach_files/Logo2_dop_obr.jpg"/>
          <p:cNvPicPr/>
          <p:nvPr/>
        </p:nvPicPr>
        <p:blipFill>
          <a:blip r:embed="rId9"/>
          <a:stretch/>
        </p:blipFill>
        <p:spPr>
          <a:xfrm>
            <a:off x="5854680" y="2100240"/>
            <a:ext cx="3205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2T14:12:27Z</dcterms:created>
  <dc:creator>abramova_mv</dc:creator>
  <dc:description/>
  <dc:language>en-US</dc:language>
  <cp:lastModifiedBy>Людмила Юдина</cp:lastModifiedBy>
  <cp:lastPrinted>2023-03-01T11:43:06Z</cp:lastPrinted>
  <dcterms:modified xsi:type="dcterms:W3CDTF">2023-07-05T06:00:57Z</dcterms:modified>
  <cp:revision>189</cp:revision>
  <dc:subject/>
  <dc:title>Слайд 1</dc:title>
</cp:coreProperties>
</file>